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47DF5-3ABE-4C65-9E77-1DC8EED3EE7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BC066-4A46-47AF-B6ED-B30AC69D281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69BD1-DBB4-4869-B27C-7602478FB32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7A1C-4979-455A-8D78-27217BEF969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57723-0990-405F-8957-1C776C4BF3F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E16C-A7C2-4505-AA09-BE9B86418F0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BA24-D826-440F-929C-E08B42485938}"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30571-6703-4275-82DC-74F61683748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22E79-2907-4123-BCAD-407E31C4FBA4}"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CCD37-2D0C-464C-9F99-F2996F5CA092}"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D116A-292C-49F1-8E90-453601BD9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CD13E-5E8C-4774-858D-9DDD4F66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E5D46-0DE6-424C-B3CC-9ADF9C1E7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A68C2D-F914-4934-AD76-A44D6F474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EC6CA-6C73-433A-A6EA-5A705C437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8690D-6E50-45F2-BAF1-295770FE8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A4883-F55F-4770-9EE3-911423C5F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5D2E8-EBAF-4E8B-898B-C8A17DFBC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CBEC-6998-4717-8F92-FA558E2CA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A623A-1A5E-4933-8D9B-CBA8724F4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81ACE-80EC-4937-8FE1-C9A736ACB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7AF3B-1F15-4862-B1D0-F811D5BDDA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1D7B2-016B-4A61-A32F-92154B63E28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4-05-26T13:51:19Z</dcterms:modified>
  <cp:revision>26</cp:revision>
  <dc:subject/>
  <dc:title>Countries</dc:title>
</cp:coreProperties>
</file>